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821-C274-4BBA-8425-8B385A4F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A6D-E241-471D-A5D1-C6EBE373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EDE-130B-4202-BC3F-49A6C3CD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B4E-53EA-40A0-88A3-2504DB30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D7A-DEAA-4140-8C2C-E5814AA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34B-1C30-419F-BBE9-6BB18ED7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F95-BEBE-44AE-B1B1-4BDE2472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FED-0C9E-4129-9B72-B7F14545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3CB-7574-4467-85BC-E634E73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557-68B1-4A99-AC58-A274E505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AED-F859-486A-956F-07564565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4EB-5648-47E0-8716-608596BC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F36A-ED72-45E7-BFFA-AF8C7887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42840" y="907920"/>
            <a:ext cx="7258320" cy="423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ека живей радостта в наш’те сърц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Пей на Христа, дай Му ти слав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ека живей радостта в наште сърц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завинаги любовта на Христ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а пълни свет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4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971640" y="2421000"/>
            <a:ext cx="6975360" cy="32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Любовта Му към нас е голяма,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проля Си кръвта,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мирът, който Той ни дарява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е несравним в света.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028960" y="2286000"/>
            <a:ext cx="5086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ете за този дар.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мята прогласете,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 Исус е Цар.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1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942840" y="907920"/>
            <a:ext cx="7258320" cy="423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ека живей радостта в наш’те сърц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Пей на Христа, дай Му ти слав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ека живей радостта в наште сърц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завинаги любовта на Христ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а пълни свет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8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036000" cy="693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71640" y="1413000"/>
            <a:ext cx="6337080" cy="31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когато Духът Му живее,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ълбоко във нас -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слабостта си ще преодолеем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чрез мощната Му власт.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028960" y="2286000"/>
            <a:ext cx="5086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ете за този дар.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мята прогласете,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 Исус е Цар.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42840" y="907920"/>
            <a:ext cx="7258320" cy="423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ека живей радостта в наш’те сърц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Пей на Христа, дай Му ти слав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ека живей радостта в наште сърц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завинаги любовта на Христ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да пълни свет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37:08Z</dcterms:created>
  <dc:creator>TrifonTrifonow</dc:creator>
  <dc:description/>
  <dc:language>en-US</dc:language>
  <cp:lastModifiedBy>TrifonTrifonow</cp:lastModifiedBy>
  <dcterms:modified xsi:type="dcterms:W3CDTF">2005-12-15T06:37:57Z</dcterms:modified>
  <cp:revision>1</cp:revision>
  <dc:subject/>
  <dc:title>Slide 1</dc:title>
</cp:coreProperties>
</file>